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10FC5-DB0D-4A7A-B359-1A20C6FFDF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2375A2-3AA3-42DF-9F99-11776296E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993AC7-C2F9-49C9-985B-74C2399C2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FCE5CF-8AB1-48D2-BF5F-EB1644B608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288441-5A80-480D-A77C-AC021C222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5C60EC-C672-47FA-9251-5D4DF24CC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6C2CAE-5D5A-447E-91F6-CCDE73CEA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DB3B27-D342-449B-A4EF-1559273FC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62285F-41AD-422B-B81A-158878D70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DE14DD-8E3E-45A6-B423-1F9DA359A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331AEA-9130-4F75-B69D-794FB69A4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B87F4C-C71B-476A-A213-A93C64C42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76EF-609B-4A0A-85AD-9D8B1A4E69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arrow" w="med"/>
            <a:tailEnd len="med" type="arrow"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arrow" w="med"/>
            <a:tailEnd len="med" type="arrow"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